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D09-99CC-4D4E-9F11-E4345F1A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47A8-18D7-4035-8659-47187151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650-8273-450F-9DF1-689569EA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D4B5-9086-4060-89DE-399442C2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D060-C5D8-4894-9232-24B59828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2B74-199E-4F7A-B2EA-56175FBE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7385-70A9-4450-AD0F-2CAE09AA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4CA0-0F6D-410C-A65B-D1FE131E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2785-D05F-44D1-84AF-796A31CC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BB52-A285-4DBF-94D4-2A3DE46C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C52B-32F4-4676-8ED7-5FCE7087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BB2-A382-4121-A3B3-EC54C9C2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C7A8-83EB-4B59-AB84-59FDBBD4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3222-81D9-41DD-90B8-C34BFF1E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165C-5CE3-4AA5-9064-5F050662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8E57-6BE6-4BDD-AE22-A3F4E4DB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BAA7-1EC6-4926-B9EA-97FCF2EE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05B4-1E88-423B-8B8E-ACBAF90B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457-B6E3-445F-B5BD-448246D1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055-2861-471B-81F0-91D4685F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6D0-1D36-4DE6-8387-346B4003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1D67-BE03-4883-8230-4FD565D4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3B3-868D-47D7-B825-EE0A9113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A19B-5D2E-4F90-A354-73213FB2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E9FB-5A13-4BEC-905D-A25110581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A1ED-6B19-4711-A2A0-FC24A888D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etworking Gu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grams, Logical &amp; Physical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etworking Technology - Diagra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1722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ctors affecting the design of networked information system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tibility of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produce required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secure confidentia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fulfill required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9"/>
          <a:stretch/>
        </p:blipFill>
        <p:spPr>
          <a:xfrm>
            <a:off x="6248520" y="4267080"/>
            <a:ext cx="226368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rawing a Network Diagra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782720" y="2147760"/>
            <a:ext cx="5578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tting up a scenario for network desig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he follow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umber of work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ackbone switch, workgroups on one side a collection of required servers on the other e.g.:file, mail, web, pro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 connection and appropriate security, a firew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22:59:58Z</dcterms:created>
  <dc:creator>claudia.graham</dc:creator>
  <dc:description/>
  <dc:language>en-US</dc:language>
  <cp:lastModifiedBy>Kelvin Baird</cp:lastModifiedBy>
  <dcterms:modified xsi:type="dcterms:W3CDTF">2007-01-05T02:39:33Z</dcterms:modified>
  <cp:revision>54</cp:revision>
  <dc:subject/>
  <dc:title>Networking Guide</dc:title>
</cp:coreProperties>
</file>